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7.png" ContentType="image/png"/>
  <Override PartName="/ppt/media/image12.jpeg" ContentType="image/jpeg"/>
  <Override PartName="/ppt/media/image6.png" ContentType="image/png"/>
  <Override PartName="/ppt/media/image4.jpeg" ContentType="image/jpeg"/>
  <Override PartName="/ppt/media/image2.png" ContentType="image/png"/>
  <Override PartName="/ppt/media/image25.jpeg" ContentType="image/jpeg"/>
  <Override PartName="/ppt/media/image23.jpeg" ContentType="image/jpeg"/>
  <Override PartName="/ppt/media/image22.wmf" ContentType="image/x-wmf"/>
  <Override PartName="/ppt/media/image20.png" ContentType="image/png"/>
  <Override PartName="/ppt/media/image19.jpeg" ContentType="image/jpeg"/>
  <Override PartName="/ppt/media/image18.jpeg" ContentType="image/jpeg"/>
  <Override PartName="/ppt/media/image21.wmf" ContentType="image/x-wmf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media/image24.png" ContentType="image/png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753225" cy="9842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753600" cy="984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27160" y="-36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915480" y="736200"/>
            <a:ext cx="4923000" cy="369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Click to move the slide</a:t>
            </a: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01800" y="4673520"/>
            <a:ext cx="4951440" cy="44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934848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27160" y="934848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E6EF22A-598D-445C-A77B-C7DAA3854A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3827160" y="934848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9E9AEB60-F230-4E20-8D4D-0E1201216A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0" y="934848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3827160" y="-36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919080" y="739800"/>
            <a:ext cx="4919760" cy="368928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76440" y="4674960"/>
            <a:ext cx="540360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ou can see the test board with chip on bo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oscillation  problem have been almost solved by chip on boar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re are  no longer oscillations at gain lower than 2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3827160" y="934848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7B6582E-384C-4579-8DEE-FBB14CE5E3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 txBox="1"/>
          <p:nvPr/>
        </p:nvSpPr>
        <p:spPr>
          <a:xfrm>
            <a:off x="0" y="934848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0" y="-360"/>
            <a:ext cx="292752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3827160" y="-360"/>
            <a:ext cx="292716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917640" y="738360"/>
            <a:ext cx="4921200" cy="369072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76440" y="4674960"/>
            <a:ext cx="5403600" cy="4429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8CCA-8F2A-4EBC-BFA4-9619C644D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15328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660480"/>
            <a:ext cx="815328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639BE-B402-490D-8A86-09DB4FF74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406760" y="91404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66048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406760" y="366048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7845-1E1C-400C-BB96-F738D676E5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262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985480" y="914040"/>
            <a:ext cx="262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742000" y="914040"/>
            <a:ext cx="262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660480"/>
            <a:ext cx="262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985480" y="3660480"/>
            <a:ext cx="262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742000" y="3660480"/>
            <a:ext cx="262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6757-9262-4E88-BE96-AFBEFD127B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79AF2-974A-4EC4-B52C-75C1C24338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3FBFF-312B-415E-B482-FA7262B60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3E3B6-3DCC-41FE-A2C1-930E88185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3978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406760" y="914040"/>
            <a:ext cx="3978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6B593-3381-4C41-8FE4-E2E66D029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64CC9-7521-4535-B335-AC0BFAA10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6320"/>
            <a:ext cx="8001000" cy="25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AB7E0-5257-45EF-AD62-3FC220F0B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406760" y="914040"/>
            <a:ext cx="3978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600" y="366048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6DD6A-D812-43BE-B018-E6CFCD087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A611-CA95-44A0-9A83-DCDDA449C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3978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406760" y="91404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406760" y="366048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57A328-0831-46D8-A9BE-57D898BFE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406760" y="91404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600" y="3660480"/>
            <a:ext cx="815328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7A0EB-A636-4CB6-8123-C2AEE7821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15328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600" y="3660480"/>
            <a:ext cx="815328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857E4-67A9-4899-904E-613E1781A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406760" y="91404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" y="366048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406760" y="366048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D967F-617D-4D81-8EF4-1F896BA4D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262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2985480" y="914040"/>
            <a:ext cx="262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742000" y="914040"/>
            <a:ext cx="262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600" y="3660480"/>
            <a:ext cx="262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2985480" y="3660480"/>
            <a:ext cx="262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742000" y="3660480"/>
            <a:ext cx="26251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C2439-144E-4635-87B5-1502B8037D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1F535-E987-4E17-A6B3-28FFD46FF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3978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406760" y="914040"/>
            <a:ext cx="3978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F697-B1CC-4297-A179-BF5615B5F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77CE-E4B2-43E8-A7CC-33A577DDD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520" y="76320"/>
            <a:ext cx="8001000" cy="25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0D4AC-8A2E-4987-AFA1-2AA38E20C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406760" y="914040"/>
            <a:ext cx="3978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66048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5B0A-7DDF-47AE-94F2-A57533B8E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39787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406760" y="91404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406760" y="366048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7B06-8241-445C-834A-7D5CA6CB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91404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406760" y="914040"/>
            <a:ext cx="397872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660480"/>
            <a:ext cx="8153280" cy="2507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1FA9-5149-4735-B6AE-87345FC1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91404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51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451"/>
              </a:spcBef>
              <a:buClr>
                <a:srgbClr val="3366ff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80880" y="6629040"/>
            <a:ext cx="15242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057040" y="6629040"/>
            <a:ext cx="52578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619760" y="6629040"/>
            <a:ext cx="10666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11C90-D0A7-471E-8E44-429B12CD66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04920" y="620640"/>
            <a:ext cx="8076960" cy="0"/>
          </a:xfrm>
          <a:prstGeom prst="line">
            <a:avLst/>
          </a:prstGeom>
          <a:ln cap="sq"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Click to edit the title text format</a:t>
            </a: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752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2438280" y="6248520"/>
            <a:ext cx="5029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7543800" y="624852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B6B6A-3C85-4BB5-9AF8-96DCA9CAD5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457200" indent="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2" marL="914400" algn="ctr">
              <a:spcBef>
                <a:spcPts val="349"/>
              </a:spcBef>
              <a:buClr>
                <a:srgbClr val="3366ff"/>
              </a:buClr>
              <a:buFont typeface="Comic Sans M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1400" spc="-1" strike="noStrike">
              <a:solidFill>
                <a:srgbClr val="000000"/>
              </a:solidFill>
              <a:latin typeface="Comic Sans MS"/>
            </a:endParaRPr>
          </a:p>
          <a:p>
            <a:pPr lvl="3" marL="1371600" algn="ctr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2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n2p3.fr/" TargetMode="External"/><Relationship Id="rId3" Type="http://schemas.openxmlformats.org/officeDocument/2006/relationships/image" Target="../media/image2.png"/><Relationship Id="rId4" Type="http://schemas.openxmlformats.org/officeDocument/2006/relationships/hyperlink" Target="http://www.u-psud.fr/" TargetMode="External"/><Relationship Id="rId5" Type="http://schemas.openxmlformats.org/officeDocument/2006/relationships/image" Target="../media/image3.png"/><Relationship Id="rId6" Type="http://schemas.openxmlformats.org/officeDocument/2006/relationships/hyperlink" Target="http://www.cnrs.fr/" TargetMode="External"/><Relationship Id="rId7" Type="http://schemas.openxmlformats.org/officeDocument/2006/relationships/image" Target="../media/image4.jpe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image" Target="../media/image16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640" y="3068280"/>
            <a:ext cx="7848720" cy="1655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3300"/>
                </a:solidFill>
                <a:latin typeface="Comic Sans MS"/>
              </a:rPr>
              <a:t>Large area photodetection for Water Cerenkov detectors </a:t>
            </a:r>
            <a:br>
              <a:rPr sz="2800"/>
            </a:br>
            <a:r>
              <a:rPr b="1" lang="fr-FR" sz="2800" spc="-1" strike="noStrike">
                <a:solidFill>
                  <a:srgbClr val="ff3300"/>
                </a:solidFill>
                <a:latin typeface="Comic Sans MS"/>
              </a:rPr>
              <a:t>PMm</a:t>
            </a:r>
            <a:r>
              <a:rPr b="1" lang="fr-FR" sz="28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r>
              <a:rPr b="1" lang="fr-FR" sz="2800" spc="-1" strike="noStrike">
                <a:solidFill>
                  <a:srgbClr val="ff3300"/>
                </a:solidFill>
                <a:latin typeface="Comic Sans MS"/>
              </a:rPr>
              <a:t> proposal: Front End Electronics</a:t>
            </a:r>
            <a:br>
              <a:rPr sz="2800"/>
            </a:br>
            <a:r>
              <a:rPr b="1" lang="fr-FR" sz="2800" spc="-1" strike="noStrike">
                <a:solidFill>
                  <a:srgbClr val="ff3300"/>
                </a:solidFill>
                <a:latin typeface="Comic Sans MS"/>
              </a:rPr>
              <a:t>MAROC ASIC</a:t>
            </a:r>
            <a:endParaRPr b="1" lang="en-US" sz="28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78920" y="4979520"/>
            <a:ext cx="8713800" cy="754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mic Sans MS"/>
              </a:rPr>
              <a:t>Pierre BARRILLON, Sylvie BLIN, Jean-Eric CAMPAGNE, Christophe de LA TAILLE, Nathalie SEGUIN-MOREAU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mic Sans MS"/>
              </a:rPr>
              <a:t>(LAL ORSAY)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mic Sans MS"/>
              </a:rPr>
              <a:t>Joel POUTHAS, Bernard GENOLINI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mic Sans MS"/>
              </a:rPr>
              <a:t>(IPNO IN2P3)</a:t>
            </a:r>
            <a:endParaRPr b="1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7667640" y="5840280"/>
            <a:ext cx="1297080" cy="7574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364000" y="5911920"/>
            <a:ext cx="1656000" cy="61272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5823000"/>
            <a:ext cx="2195640" cy="77472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2916360" y="5948280"/>
            <a:ext cx="1871640" cy="64944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3419640" y="333360"/>
            <a:ext cx="2158920" cy="2521080"/>
            <a:chOff x="3419640" y="333360"/>
            <a:chExt cx="2158920" cy="2521080"/>
          </a:xfrm>
        </p:grpSpPr>
        <p:pic>
          <p:nvPicPr>
            <p:cNvPr id="97" name="" descr=""/>
            <p:cNvPicPr/>
            <p:nvPr/>
          </p:nvPicPr>
          <p:blipFill>
            <a:blip r:embed="rId8"/>
            <a:srcRect l="0" t="23783" r="0" b="0"/>
            <a:stretch/>
          </p:blipFill>
          <p:spPr>
            <a:xfrm>
              <a:off x="3419640" y="333360"/>
              <a:ext cx="2158920" cy="2163240"/>
            </a:xfrm>
            <a:prstGeom prst="rect">
              <a:avLst/>
            </a:prstGeom>
            <a:ln w="9360">
              <a:solidFill>
                <a:srgbClr val="009900"/>
              </a:solidFill>
              <a:miter/>
            </a:ln>
          </p:spPr>
        </p:pic>
        <p:pic>
          <p:nvPicPr>
            <p:cNvPr id="98" name="" descr=""/>
            <p:cNvPicPr/>
            <p:nvPr/>
          </p:nvPicPr>
          <p:blipFill>
            <a:blip r:embed="rId9"/>
            <a:srcRect l="17508" t="12557" r="13711" b="5953"/>
            <a:stretch/>
          </p:blipFill>
          <p:spPr>
            <a:xfrm>
              <a:off x="3419640" y="333360"/>
              <a:ext cx="2155680" cy="2521080"/>
            </a:xfrm>
            <a:prstGeom prst="rect">
              <a:avLst/>
            </a:prstGeom>
            <a:ln w="9360">
              <a:solidFill>
                <a:srgbClr val="009900"/>
              </a:solidFill>
              <a:miter/>
            </a:ln>
          </p:spPr>
        </p:pic>
        <p:pic>
          <p:nvPicPr>
            <p:cNvPr id="99" name="" descr=""/>
            <p:cNvPicPr/>
            <p:nvPr/>
          </p:nvPicPr>
          <p:blipFill>
            <a:blip r:embed="rId10"/>
            <a:srcRect l="16077" t="9433" r="10749" b="5617"/>
            <a:stretch/>
          </p:blipFill>
          <p:spPr>
            <a:xfrm>
              <a:off x="3419640" y="1524600"/>
              <a:ext cx="1093320" cy="1328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TEST BOARD </a:t>
            </a:r>
            <a:endParaRPr b="1" lang="en-US" sz="20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642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468360" y="692280"/>
            <a:ext cx="8278560" cy="5832000"/>
            <a:chOff x="468360" y="692280"/>
            <a:chExt cx="8278560" cy="5832000"/>
          </a:xfrm>
        </p:grpSpPr>
        <p:pic>
          <p:nvPicPr>
            <p:cNvPr id="296" name="" descr=""/>
            <p:cNvPicPr/>
            <p:nvPr/>
          </p:nvPicPr>
          <p:blipFill>
            <a:blip r:embed="rId1"/>
            <a:stretch/>
          </p:blipFill>
          <p:spPr>
            <a:xfrm>
              <a:off x="468360" y="692280"/>
              <a:ext cx="7019640" cy="58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3080880" y="3586320"/>
              <a:ext cx="946080" cy="942840"/>
            </a:xfrm>
            <a:prstGeom prst="ellipse">
              <a:avLst/>
            </a:prstGeom>
            <a:noFill/>
            <a:ln cap="sq" w="381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856600" y="4580280"/>
              <a:ext cx="1185120" cy="58068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MAROC (COB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988200" y="4496760"/>
              <a:ext cx="1186560" cy="58068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Times New Roman"/>
                </a:rPr>
                <a:t>64ch PM socke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188120" y="4332600"/>
              <a:ext cx="1183680" cy="33732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USB 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561800" y="1684440"/>
              <a:ext cx="1185120" cy="33732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GPIB por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947480" y="4580280"/>
              <a:ext cx="1185120" cy="580680"/>
            </a:xfrm>
            <a:prstGeom prst="rect">
              <a:avLst/>
            </a:prstGeom>
            <a:solidFill>
              <a:srgbClr val="ff99cc"/>
            </a:solidFill>
            <a:ln cap="sq"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ff0000"/>
                  </a:solidFill>
                  <a:latin typeface="Times New Roman"/>
                </a:rPr>
                <a:t>Control Altera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FJPPL Neutrino PMM2 R&amp;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2B067-A6CD-4EED-958B-7B65CE9DF83A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EK, 9 ma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Comic Sans MS"/>
              </a:rPr>
              <a:t>Large area photodetection requirements</a:t>
            </a: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45594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Single photoelectron sensitivity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Excellent time resolution ~100 ps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High granularity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Scalability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99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ff3300"/>
                </a:solidFill>
                <a:uFillTx/>
                <a:latin typeface="Comic Sans MS"/>
              </a:rPr>
              <a:t>Low cost</a:t>
            </a:r>
            <a:endParaRPr b="1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Profit from progress in micro-electronics and DAQ !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3300"/>
                </a:solidFill>
                <a:latin typeface="Comic Sans MS"/>
              </a:rPr>
              <a:t>Many issues in common with HPD or large PMs developments by KEK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5116680" y="836640"/>
            <a:ext cx="3768480" cy="3816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6227640" y="4824360"/>
            <a:ext cx="2089440" cy="20336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FJPPL Neutrino PMM2 R&amp;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67B42-CF70-491C-A95E-526495A08D73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EK, 9 ma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7041240" y="1413000"/>
            <a:ext cx="181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Joël Pouthas</a:t>
            </a: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	</a:t>
            </a:r>
            <a:r>
              <a:rPr b="0" lang="en-US" sz="1200" spc="-1" strike="noStrike">
                <a:solidFill>
                  <a:srgbClr val="3333cc"/>
                </a:solidFill>
                <a:latin typeface="Comic Sans MS"/>
              </a:rPr>
              <a:t>IPN Ors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804000" y="476280"/>
            <a:ext cx="2340000" cy="0"/>
          </a:xfrm>
          <a:prstGeom prst="line">
            <a:avLst/>
          </a:prstGeom>
          <a:ln w="1908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5580000" y="1844640"/>
            <a:ext cx="3344760" cy="3960720"/>
            <a:chOff x="5580000" y="1844640"/>
            <a:chExt cx="3344760" cy="3960720"/>
          </a:xfrm>
        </p:grpSpPr>
        <p:pic>
          <p:nvPicPr>
            <p:cNvPr id="107" name="" descr=""/>
            <p:cNvPicPr/>
            <p:nvPr/>
          </p:nvPicPr>
          <p:blipFill>
            <a:blip r:embed="rId1"/>
            <a:srcRect l="0" t="23783" r="0" b="0"/>
            <a:stretch/>
          </p:blipFill>
          <p:spPr>
            <a:xfrm>
              <a:off x="5580000" y="1844640"/>
              <a:ext cx="3344760" cy="3398760"/>
            </a:xfrm>
            <a:prstGeom prst="rect">
              <a:avLst/>
            </a:prstGeom>
            <a:ln w="9360">
              <a:solidFill>
                <a:srgbClr val="009900"/>
              </a:solidFill>
              <a:miter/>
            </a:ln>
          </p:spPr>
        </p:pic>
        <p:pic>
          <p:nvPicPr>
            <p:cNvPr id="108" name="" descr=""/>
            <p:cNvPicPr/>
            <p:nvPr/>
          </p:nvPicPr>
          <p:blipFill>
            <a:blip r:embed="rId2"/>
            <a:srcRect l="17508" t="12557" r="13711" b="5953"/>
            <a:stretch/>
          </p:blipFill>
          <p:spPr>
            <a:xfrm>
              <a:off x="5580000" y="1844640"/>
              <a:ext cx="3340080" cy="3960720"/>
            </a:xfrm>
            <a:prstGeom prst="rect">
              <a:avLst/>
            </a:prstGeom>
            <a:ln w="9360">
              <a:solidFill>
                <a:srgbClr val="009900"/>
              </a:solidFill>
              <a:miter/>
            </a:ln>
          </p:spPr>
        </p:pic>
        <p:pic>
          <p:nvPicPr>
            <p:cNvPr id="109" name="" descr=""/>
            <p:cNvPicPr/>
            <p:nvPr/>
          </p:nvPicPr>
          <p:blipFill>
            <a:blip r:embed="rId3"/>
            <a:srcRect l="16077" t="9433" r="10749" b="5617"/>
            <a:stretch/>
          </p:blipFill>
          <p:spPr>
            <a:xfrm>
              <a:off x="5580000" y="3716280"/>
              <a:ext cx="1693800" cy="2087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0" name=""/>
          <p:cNvSpPr/>
          <p:nvPr/>
        </p:nvSpPr>
        <p:spPr>
          <a:xfrm>
            <a:off x="1116000" y="5950080"/>
            <a:ext cx="655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ntegrated electronics</a:t>
            </a:r>
            <a:r>
              <a:rPr b="0" lang="en-US" sz="2000" spc="-1" strike="noStrike">
                <a:solidFill>
                  <a:srgbClr val="cccccc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mic Sans MS"/>
              </a:rPr>
              <a:t>(Multichannel, close to the PMT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332000" y="4463640"/>
            <a:ext cx="5497560" cy="1846440"/>
            <a:chOff x="1332000" y="4463640"/>
            <a:chExt cx="5497560" cy="1846440"/>
          </a:xfrm>
        </p:grpSpPr>
        <p:sp>
          <p:nvSpPr>
            <p:cNvPr id="112" name=""/>
            <p:cNvSpPr/>
            <p:nvPr/>
          </p:nvSpPr>
          <p:spPr>
            <a:xfrm rot="21192000">
              <a:off x="6013080" y="4508640"/>
              <a:ext cx="789120" cy="50292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1332000" y="4868640"/>
              <a:ext cx="4681440" cy="108108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 flipV="1">
              <a:off x="1332000" y="5949720"/>
              <a:ext cx="0" cy="360360"/>
            </a:xfrm>
            <a:prstGeom prst="line">
              <a:avLst/>
            </a:prstGeom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79280" y="836640"/>
            <a:ext cx="5077080" cy="41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PMm2” (2006 – 2009), funded by the ANR (National Agency for Research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AL Orsay, IPN Orsay, LAPP Annecy and Photon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Replace large PMTs (20”) by groups of smaller ones (12”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Use central multi-channel ASIC (MARO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Use common High Voltage to reduce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Only one wire out (DATA + VC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Comic Sans MS"/>
              </a:rPr>
              <a:t>Water-t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Comic Sans MS"/>
              </a:rPr>
              <a:t>Target low co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100000"/>
              </a:lnSpc>
              <a:spcBef>
                <a:spcPts val="451"/>
              </a:spcBef>
              <a:buClr>
                <a:srgbClr val="3366ff"/>
              </a:buClr>
              <a:buSzPct val="72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lnSpc>
                <a:spcPct val="100000"/>
              </a:lnSpc>
              <a:spcBef>
                <a:spcPts val="349"/>
              </a:spcBef>
              <a:buClr>
                <a:srgbClr val="3366ff"/>
              </a:buClr>
              <a:buSzPct val="92000"/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100000"/>
              </a:lnSpc>
              <a:spcBef>
                <a:spcPts val="499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17680" y="168120"/>
            <a:ext cx="3465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Comic Sans MS"/>
              </a:rPr>
              <a:t>R&amp;D PROGRAM FOR PMm</a:t>
            </a:r>
            <a:r>
              <a:rPr b="1" lang="en-US" sz="2000" spc="-1" strike="noStrike" baseline="30000">
                <a:solidFill>
                  <a:srgbClr val="ff33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FJPPL Neutrino PMM2 R&amp;D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B254B-84EB-4977-8E1B-8C665F16EF0D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EK, 9 ma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fr-FR" sz="2400" spc="-1" strike="noStrike">
                <a:solidFill>
                  <a:srgbClr val="ff3300"/>
                </a:solidFill>
                <a:latin typeface="Comic Sans MS"/>
              </a:rPr>
              <a:t>MAROC : 64 ch MAPMT chip for ATLAS lumi</a:t>
            </a: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18" name=""/>
          <p:cNvSpPr/>
          <p:nvPr/>
        </p:nvSpPr>
        <p:spPr>
          <a:xfrm>
            <a:off x="468360" y="765000"/>
            <a:ext cx="2808360" cy="549000"/>
          </a:xfrm>
          <a:prstGeom prst="rect">
            <a:avLst/>
          </a:prstGeom>
          <a:solidFill>
            <a:srgbClr val="ccffff"/>
          </a:solidFill>
          <a:ln w="93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00"/>
                </a:solidFill>
                <a:uFillTx/>
                <a:latin typeface="Verdana"/>
              </a:rPr>
              <a:t>PMTs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: 5x5 array of 64 anodes PM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695840" y="206064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427640" y="981000"/>
            <a:ext cx="2484360" cy="331308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 flipV="1">
            <a:off x="3203640" y="3357360"/>
            <a:ext cx="1944720" cy="433080"/>
          </a:xfrm>
          <a:prstGeom prst="line">
            <a:avLst/>
          </a:prstGeom>
          <a:ln w="1908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H="1">
            <a:off x="3131640" y="2060640"/>
            <a:ext cx="1871640" cy="100800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859280" y="4437000"/>
            <a:ext cx="2881440" cy="21607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867280" y="2276640"/>
            <a:ext cx="360360" cy="273672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356000" y="1197000"/>
            <a:ext cx="299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few external componen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952520" y="3933720"/>
            <a:ext cx="10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Verdana"/>
              </a:rPr>
              <a:t>3*3 cm</a:t>
            </a:r>
            <a:r>
              <a:rPr b="1" lang="en-US" sz="1800" spc="-1" strike="noStrike" baseline="30000">
                <a:solidFill>
                  <a:srgbClr val="3366ff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843880" y="6165720"/>
            <a:ext cx="175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3300"/>
                </a:solidFill>
                <a:latin typeface="Verdana"/>
              </a:rPr>
              <a:t>Chip On Boar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6804000" y="828720"/>
            <a:ext cx="2736720" cy="20509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6300720" y="1916280"/>
            <a:ext cx="1150920" cy="0"/>
          </a:xfrm>
          <a:prstGeom prst="line">
            <a:avLst/>
          </a:prstGeom>
          <a:ln w="190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H="1">
            <a:off x="6227640" y="5157720"/>
            <a:ext cx="1657440" cy="4320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835040" y="494172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MAROC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92360" y="4508640"/>
            <a:ext cx="164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3300"/>
                </a:solidFill>
                <a:latin typeface="Verdana"/>
              </a:rPr>
              <a:t>BOTTOM si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4"/>
          <a:stretch/>
        </p:blipFill>
        <p:spPr>
          <a:xfrm>
            <a:off x="179280" y="1363680"/>
            <a:ext cx="4103640" cy="408132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5"/>
          <a:stretch/>
        </p:blipFill>
        <p:spPr>
          <a:xfrm>
            <a:off x="0" y="0"/>
            <a:ext cx="447840" cy="100008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7020000" y="2997360"/>
            <a:ext cx="2124000" cy="140328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grpSp>
        <p:nvGrpSpPr>
          <p:cNvPr id="136" name=""/>
          <p:cNvGrpSpPr/>
          <p:nvPr/>
        </p:nvGrpSpPr>
        <p:grpSpPr>
          <a:xfrm>
            <a:off x="401760" y="4437000"/>
            <a:ext cx="3090600" cy="2313360"/>
            <a:chOff x="401760" y="4437000"/>
            <a:chExt cx="3090600" cy="2313360"/>
          </a:xfrm>
        </p:grpSpPr>
        <p:pic>
          <p:nvPicPr>
            <p:cNvPr id="137" name="" descr=""/>
            <p:cNvPicPr/>
            <p:nvPr/>
          </p:nvPicPr>
          <p:blipFill>
            <a:blip r:embed="rId7"/>
            <a:stretch/>
          </p:blipFill>
          <p:spPr>
            <a:xfrm>
              <a:off x="401760" y="4437000"/>
              <a:ext cx="3090600" cy="2107800"/>
            </a:xfrm>
            <a:prstGeom prst="rect">
              <a:avLst/>
            </a:prstGeom>
            <a:ln w="25560">
              <a:solidFill>
                <a:srgbClr val="000000"/>
              </a:solidFill>
              <a:miter/>
            </a:ln>
          </p:spPr>
        </p:pic>
        <p:sp>
          <p:nvSpPr>
            <p:cNvPr id="138" name=""/>
            <p:cNvSpPr/>
            <p:nvPr/>
          </p:nvSpPr>
          <p:spPr>
            <a:xfrm>
              <a:off x="1610640" y="5962320"/>
              <a:ext cx="107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Comic Sans MS"/>
                </a:rPr>
                <a:t>2x10x16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525320" y="6382080"/>
              <a:ext cx="1445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ppareilla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FJPPL Neutrino PMM2 R&amp;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8285F-4346-43D2-AB52-8EE904C884E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EK, 9 ma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1" lang="fr-FR" sz="2400" spc="-1" strike="noStrike">
                <a:solidFill>
                  <a:srgbClr val="ff3300"/>
                </a:solidFill>
                <a:latin typeface="Comic Sans MS"/>
              </a:rPr>
              <a:t>MAROC : 64 ch MAPMT chip for ATLAS lumi</a:t>
            </a: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-324360" y="765000"/>
            <a:ext cx="3419640" cy="5904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imilar to OPERA RO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Low input impedance (</a:t>
            </a: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50-100 </a:t>
            </a:r>
            <a:r>
              <a:rPr b="0" lang="fr-FR" sz="1600" spc="-1" strike="noStrike">
                <a:solidFill>
                  <a:srgbClr val="ff3300"/>
                </a:solidFill>
                <a:latin typeface="Comic Sans MS"/>
              </a:rPr>
              <a:t>Ω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6 bits gain adjustment (G=0-4) per channel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64 discriminator outputs 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100% sensitivity to 1/3 photoelectron (50fC).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Counting rate up to 2 MHz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mmon threshold loaded by internal 10bit DAC (step 3mV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1 multiplexed charge output with variable shaping 20-200ns and Track &amp; Hold. 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Comic Sans MS"/>
              </a:rPr>
              <a:t>Dynamic range : 11 bits  (2fC - 5 pC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rosstalk &lt; 1%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539640" cy="10000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132000" y="1960560"/>
            <a:ext cx="468360" cy="18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2986560" y="1125360"/>
            <a:ext cx="6618960" cy="3365280"/>
            <a:chOff x="2986560" y="1125360"/>
            <a:chExt cx="6618960" cy="3365280"/>
          </a:xfrm>
        </p:grpSpPr>
        <p:sp>
          <p:nvSpPr>
            <p:cNvPr id="145" name=""/>
            <p:cNvSpPr/>
            <p:nvPr/>
          </p:nvSpPr>
          <p:spPr>
            <a:xfrm>
              <a:off x="4574160" y="1125360"/>
              <a:ext cx="80100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Hold signal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213880" y="112536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7" name=""/>
            <p:cNvGrpSpPr/>
            <p:nvPr/>
          </p:nvGrpSpPr>
          <p:grpSpPr>
            <a:xfrm>
              <a:off x="4275720" y="1276200"/>
              <a:ext cx="3766680" cy="2840040"/>
              <a:chOff x="4275720" y="1276200"/>
              <a:chExt cx="3766680" cy="2840040"/>
            </a:xfrm>
          </p:grpSpPr>
          <p:sp>
            <p:nvSpPr>
              <p:cNvPr id="148" name=""/>
              <p:cNvSpPr/>
              <p:nvPr/>
            </p:nvSpPr>
            <p:spPr>
              <a:xfrm>
                <a:off x="4275720" y="1276200"/>
                <a:ext cx="3766680" cy="2840040"/>
              </a:xfrm>
              <a:custGeom>
                <a:avLst/>
                <a:gdLst/>
                <a:ahLst/>
                <a:rect l="l" t="t" r="r" b="b"/>
                <a:pathLst>
                  <a:path w="2286" h="2791">
                    <a:moveTo>
                      <a:pt x="96" y="0"/>
                    </a:moveTo>
                    <a:lnTo>
                      <a:pt x="0" y="112"/>
                    </a:lnTo>
                    <a:lnTo>
                      <a:pt x="0" y="2791"/>
                    </a:lnTo>
                    <a:lnTo>
                      <a:pt x="2190" y="2791"/>
                    </a:lnTo>
                    <a:lnTo>
                      <a:pt x="2286" y="2679"/>
                    </a:lnTo>
                    <a:lnTo>
                      <a:pt x="2286" y="0"/>
                    </a:lnTo>
                    <a:lnTo>
                      <a:pt x="96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4275720" y="1276200"/>
                <a:ext cx="3766680" cy="113760"/>
              </a:xfrm>
              <a:custGeom>
                <a:avLst/>
                <a:gdLst/>
                <a:ahLst/>
                <a:rect l="l" t="t" r="r" b="b"/>
                <a:pathLst>
                  <a:path w="2286" h="112">
                    <a:moveTo>
                      <a:pt x="0" y="112"/>
                    </a:moveTo>
                    <a:lnTo>
                      <a:pt x="2190" y="112"/>
                    </a:lnTo>
                    <a:lnTo>
                      <a:pt x="2286" y="0"/>
                    </a:lnTo>
                    <a:lnTo>
                      <a:pt x="96" y="0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add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884360" y="1276200"/>
                <a:ext cx="158040" cy="2840040"/>
              </a:xfrm>
              <a:custGeom>
                <a:avLst/>
                <a:gdLst/>
                <a:ahLst/>
                <a:rect l="l" t="t" r="r" b="b"/>
                <a:pathLst>
                  <a:path w="96" h="2791">
                    <a:moveTo>
                      <a:pt x="0" y="112"/>
                    </a:moveTo>
                    <a:lnTo>
                      <a:pt x="96" y="0"/>
                    </a:lnTo>
                    <a:lnTo>
                      <a:pt x="96" y="2679"/>
                    </a:lnTo>
                    <a:lnTo>
                      <a:pt x="0" y="2791"/>
                    </a:lnTo>
                    <a:lnTo>
                      <a:pt x="0" y="112"/>
                    </a:lnTo>
                    <a:close/>
                  </a:path>
                </a:pathLst>
              </a:custGeom>
              <a:solidFill>
                <a:srgbClr val="7ba4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275720" y="1276200"/>
                <a:ext cx="3766680" cy="2840040"/>
              </a:xfrm>
              <a:custGeom>
                <a:avLst/>
                <a:gdLst/>
                <a:ahLst/>
                <a:rect l="l" t="t" r="r" b="b"/>
                <a:pathLst>
                  <a:path w="2286" h="2791">
                    <a:moveTo>
                      <a:pt x="96" y="0"/>
                    </a:moveTo>
                    <a:lnTo>
                      <a:pt x="0" y="112"/>
                    </a:lnTo>
                    <a:lnTo>
                      <a:pt x="0" y="2791"/>
                    </a:lnTo>
                    <a:lnTo>
                      <a:pt x="2190" y="2791"/>
                    </a:lnTo>
                    <a:lnTo>
                      <a:pt x="2286" y="2679"/>
                    </a:lnTo>
                    <a:lnTo>
                      <a:pt x="2286" y="0"/>
                    </a:lnTo>
                    <a:lnTo>
                      <a:pt x="96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4275720" y="1276200"/>
                <a:ext cx="3766680" cy="113760"/>
              </a:xfrm>
              <a:custGeom>
                <a:avLst/>
                <a:gdLst/>
                <a:ahLst/>
                <a:rect l="l" t="t" r="r" b="b"/>
                <a:pathLst>
                  <a:path w="2286" h="112">
                    <a:moveTo>
                      <a:pt x="0" y="112"/>
                    </a:moveTo>
                    <a:lnTo>
                      <a:pt x="2190" y="112"/>
                    </a:lnTo>
                    <a:lnTo>
                      <a:pt x="2286" y="0"/>
                    </a:lnTo>
                  </a:path>
                </a:pathLst>
              </a:custGeom>
              <a:noFill/>
              <a:ln cap="rnd"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884360" y="1389960"/>
                <a:ext cx="1440" cy="272628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4" name=""/>
            <p:cNvGrpSpPr/>
            <p:nvPr/>
          </p:nvGrpSpPr>
          <p:grpSpPr>
            <a:xfrm>
              <a:off x="3206520" y="2268000"/>
              <a:ext cx="930960" cy="395640"/>
              <a:chOff x="3206520" y="2268000"/>
              <a:chExt cx="930960" cy="395640"/>
            </a:xfrm>
          </p:grpSpPr>
          <p:sp>
            <p:nvSpPr>
              <p:cNvPr id="155" name=""/>
              <p:cNvSpPr/>
              <p:nvPr/>
            </p:nvSpPr>
            <p:spPr>
              <a:xfrm>
                <a:off x="3206520" y="2268000"/>
                <a:ext cx="930960" cy="395640"/>
              </a:xfrm>
              <a:custGeom>
                <a:avLst/>
                <a:gdLst/>
                <a:ahLst/>
                <a:rect l="l" t="t" r="r" b="b"/>
                <a:pathLst>
                  <a:path w="690" h="277">
                    <a:moveTo>
                      <a:pt x="39" y="0"/>
                    </a:moveTo>
                    <a:lnTo>
                      <a:pt x="0" y="45"/>
                    </a:lnTo>
                    <a:lnTo>
                      <a:pt x="0" y="277"/>
                    </a:lnTo>
                    <a:lnTo>
                      <a:pt x="652" y="277"/>
                    </a:lnTo>
                    <a:lnTo>
                      <a:pt x="690" y="232"/>
                    </a:lnTo>
                    <a:lnTo>
                      <a:pt x="690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3206520" y="2268000"/>
                <a:ext cx="930960" cy="64080"/>
              </a:xfrm>
              <a:custGeom>
                <a:avLst/>
                <a:gdLst/>
                <a:ahLst/>
                <a:rect l="l" t="t" r="r" b="b"/>
                <a:pathLst>
                  <a:path w="690" h="45">
                    <a:moveTo>
                      <a:pt x="0" y="45"/>
                    </a:moveTo>
                    <a:lnTo>
                      <a:pt x="652" y="45"/>
                    </a:lnTo>
                    <a:lnTo>
                      <a:pt x="690" y="0"/>
                    </a:lnTo>
                    <a:lnTo>
                      <a:pt x="39" y="0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add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4086000" y="2268000"/>
                <a:ext cx="51120" cy="395640"/>
              </a:xfrm>
              <a:custGeom>
                <a:avLst/>
                <a:gdLst/>
                <a:ahLst/>
                <a:rect l="l" t="t" r="r" b="b"/>
                <a:pathLst>
                  <a:path w="38" h="277">
                    <a:moveTo>
                      <a:pt x="0" y="45"/>
                    </a:moveTo>
                    <a:lnTo>
                      <a:pt x="38" y="0"/>
                    </a:lnTo>
                    <a:lnTo>
                      <a:pt x="38" y="232"/>
                    </a:lnTo>
                    <a:lnTo>
                      <a:pt x="0" y="277"/>
                    </a:lnTo>
                    <a:lnTo>
                      <a:pt x="0" y="45"/>
                    </a:lnTo>
                    <a:close/>
                  </a:path>
                </a:pathLst>
              </a:custGeom>
              <a:solidFill>
                <a:srgbClr val="7ba4c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3206520" y="2268000"/>
                <a:ext cx="930960" cy="395640"/>
              </a:xfrm>
              <a:custGeom>
                <a:avLst/>
                <a:gdLst/>
                <a:ahLst/>
                <a:rect l="l" t="t" r="r" b="b"/>
                <a:pathLst>
                  <a:path w="690" h="277">
                    <a:moveTo>
                      <a:pt x="39" y="0"/>
                    </a:moveTo>
                    <a:lnTo>
                      <a:pt x="0" y="45"/>
                    </a:lnTo>
                    <a:lnTo>
                      <a:pt x="0" y="277"/>
                    </a:lnTo>
                    <a:lnTo>
                      <a:pt x="652" y="277"/>
                    </a:lnTo>
                    <a:lnTo>
                      <a:pt x="690" y="232"/>
                    </a:lnTo>
                    <a:lnTo>
                      <a:pt x="690" y="0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cap="rnd"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3206520" y="2268000"/>
                <a:ext cx="930960" cy="64080"/>
              </a:xfrm>
              <a:custGeom>
                <a:avLst/>
                <a:gdLst/>
                <a:ahLst/>
                <a:rect l="l" t="t" r="r" b="b"/>
                <a:pathLst>
                  <a:path w="690" h="45">
                    <a:moveTo>
                      <a:pt x="0" y="45"/>
                    </a:moveTo>
                    <a:lnTo>
                      <a:pt x="652" y="45"/>
                    </a:lnTo>
                    <a:lnTo>
                      <a:pt x="690" y="0"/>
                    </a:lnTo>
                  </a:path>
                </a:pathLst>
              </a:custGeom>
              <a:noFill/>
              <a:ln cap="rnd" w="79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086000" y="2332080"/>
                <a:ext cx="1440" cy="33120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1" name=""/>
            <p:cNvSpPr/>
            <p:nvPr/>
          </p:nvSpPr>
          <p:spPr>
            <a:xfrm>
              <a:off x="3146040" y="2330640"/>
              <a:ext cx="948240" cy="50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000000"/>
                  </a:solidFill>
                  <a:latin typeface="Times New Roman"/>
                </a:rPr>
                <a:t>Photomultiplier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000000"/>
                  </a:solidFill>
                  <a:latin typeface="Times New Roman"/>
                </a:rPr>
                <a:t>64 channel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035240" y="243180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63" name=""/>
            <p:cNvGrpSpPr/>
            <p:nvPr/>
          </p:nvGrpSpPr>
          <p:grpSpPr>
            <a:xfrm>
              <a:off x="3035880" y="2059920"/>
              <a:ext cx="214560" cy="262440"/>
              <a:chOff x="3035880" y="2059920"/>
              <a:chExt cx="214560" cy="262440"/>
            </a:xfrm>
          </p:grpSpPr>
          <p:sp>
            <p:nvSpPr>
              <p:cNvPr id="164" name=""/>
              <p:cNvSpPr/>
              <p:nvPr/>
            </p:nvSpPr>
            <p:spPr>
              <a:xfrm>
                <a:off x="3035880" y="2059920"/>
                <a:ext cx="167400" cy="13068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 flipH="1">
                <a:off x="3082680" y="2190600"/>
                <a:ext cx="119880" cy="108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3078000" y="2184840"/>
                <a:ext cx="172440" cy="137520"/>
              </a:xfrm>
              <a:custGeom>
                <a:avLst/>
                <a:gdLst/>
                <a:ahLst/>
                <a:rect l="l" t="t" r="r" b="b"/>
                <a:pathLst>
                  <a:path w="2736" h="1986">
                    <a:moveTo>
                      <a:pt x="115" y="21"/>
                    </a:moveTo>
                    <a:lnTo>
                      <a:pt x="2449" y="1683"/>
                    </a:lnTo>
                    <a:cubicBezTo>
                      <a:pt x="2479" y="1704"/>
                      <a:pt x="2486" y="1746"/>
                      <a:pt x="2465" y="1776"/>
                    </a:cubicBezTo>
                    <a:cubicBezTo>
                      <a:pt x="2443" y="1806"/>
                      <a:pt x="2402" y="1813"/>
                      <a:pt x="2372" y="1791"/>
                    </a:cubicBezTo>
                    <a:lnTo>
                      <a:pt x="37" y="130"/>
                    </a:lnTo>
                    <a:cubicBezTo>
                      <a:pt x="7" y="109"/>
                      <a:pt x="0" y="67"/>
                      <a:pt x="22" y="37"/>
                    </a:cubicBezTo>
                    <a:cubicBezTo>
                      <a:pt x="43" y="7"/>
                      <a:pt x="85" y="0"/>
                      <a:pt x="115" y="21"/>
                    </a:cubicBezTo>
                    <a:close/>
                    <a:moveTo>
                      <a:pt x="2534" y="1334"/>
                    </a:moveTo>
                    <a:lnTo>
                      <a:pt x="2736" y="1969"/>
                    </a:lnTo>
                    <a:lnTo>
                      <a:pt x="2070" y="1986"/>
                    </a:lnTo>
                    <a:lnTo>
                      <a:pt x="2534" y="1334"/>
                    </a:lnTo>
                    <a:close/>
                  </a:path>
                </a:pathLst>
              </a:custGeom>
              <a:solidFill>
                <a:srgbClr val="000000"/>
              </a:solidFill>
              <a:ln w="1440">
                <a:solidFill>
                  <a:srgbClr val="000000"/>
                </a:solidFill>
                <a:beve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7" name=""/>
            <p:cNvSpPr/>
            <p:nvPr/>
          </p:nvSpPr>
          <p:spPr>
            <a:xfrm>
              <a:off x="3035880" y="1927080"/>
              <a:ext cx="358560" cy="132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986560" y="1931040"/>
              <a:ext cx="492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hoto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377160" y="19310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4371120" y="2111760"/>
              <a:ext cx="405720" cy="658440"/>
              <a:chOff x="4371120" y="2111760"/>
              <a:chExt cx="405720" cy="658440"/>
            </a:xfrm>
          </p:grpSpPr>
          <p:sp>
            <p:nvSpPr>
              <p:cNvPr id="171" name=""/>
              <p:cNvSpPr/>
              <p:nvPr/>
            </p:nvSpPr>
            <p:spPr>
              <a:xfrm>
                <a:off x="4371120" y="2111760"/>
                <a:ext cx="405720" cy="658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4371120" y="2111760"/>
                <a:ext cx="405720" cy="65844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3" name=""/>
            <p:cNvSpPr/>
            <p:nvPr/>
          </p:nvSpPr>
          <p:spPr>
            <a:xfrm>
              <a:off x="4305600" y="2083680"/>
              <a:ext cx="488880" cy="66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000000"/>
                  </a:solidFill>
                  <a:latin typeface="Times New Roman"/>
                </a:rPr>
                <a:t>Variabl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000000"/>
                  </a:solidFill>
                  <a:latin typeface="Times New Roman"/>
                </a:rPr>
                <a:t>Gain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100" spc="-1" strike="noStrike">
                  <a:solidFill>
                    <a:srgbClr val="000000"/>
                  </a:solidFill>
                  <a:latin typeface="Times New Roman"/>
                </a:rPr>
                <a:t>Preamp.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4759560" y="2373120"/>
              <a:ext cx="35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4981320" y="1559520"/>
              <a:ext cx="723960" cy="507600"/>
              <a:chOff x="4981320" y="1559520"/>
              <a:chExt cx="723960" cy="507600"/>
            </a:xfrm>
          </p:grpSpPr>
          <p:sp>
            <p:nvSpPr>
              <p:cNvPr id="176" name=""/>
              <p:cNvSpPr/>
              <p:nvPr/>
            </p:nvSpPr>
            <p:spPr>
              <a:xfrm>
                <a:off x="4981320" y="1559520"/>
                <a:ext cx="723960" cy="507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4981320" y="1559520"/>
                <a:ext cx="723960" cy="50760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8" name=""/>
            <p:cNvSpPr/>
            <p:nvPr/>
          </p:nvSpPr>
          <p:spPr>
            <a:xfrm>
              <a:off x="4981320" y="1550160"/>
              <a:ext cx="718920" cy="7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Variabl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Slow Shap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20-100 n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635800" y="15926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" name=""/>
            <p:cNvGrpSpPr/>
            <p:nvPr/>
          </p:nvGrpSpPr>
          <p:grpSpPr>
            <a:xfrm>
              <a:off x="6064200" y="1559520"/>
              <a:ext cx="529200" cy="186840"/>
              <a:chOff x="6064200" y="1559520"/>
              <a:chExt cx="529200" cy="186840"/>
            </a:xfrm>
          </p:grpSpPr>
          <p:sp>
            <p:nvSpPr>
              <p:cNvPr id="181" name=""/>
              <p:cNvSpPr/>
              <p:nvPr/>
            </p:nvSpPr>
            <p:spPr>
              <a:xfrm>
                <a:off x="6064200" y="1559520"/>
                <a:ext cx="529200" cy="1868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6064200" y="1559520"/>
                <a:ext cx="529200" cy="18684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>
              <a:off x="6195240" y="1592640"/>
              <a:ext cx="331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&amp;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455160" y="15926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4085280" y="2426400"/>
              <a:ext cx="285840" cy="54360"/>
            </a:xfrm>
            <a:custGeom>
              <a:avLst/>
              <a:gdLst/>
              <a:ahLst/>
              <a:rect l="l" t="t" r="r" b="b"/>
              <a:pathLst>
                <a:path w="237" h="48">
                  <a:moveTo>
                    <a:pt x="0" y="18"/>
                  </a:moveTo>
                  <a:lnTo>
                    <a:pt x="202" y="18"/>
                  </a:lnTo>
                  <a:lnTo>
                    <a:pt x="202" y="30"/>
                  </a:lnTo>
                  <a:lnTo>
                    <a:pt x="0" y="30"/>
                  </a:lnTo>
                  <a:lnTo>
                    <a:pt x="0" y="18"/>
                  </a:lnTo>
                  <a:close/>
                  <a:moveTo>
                    <a:pt x="195" y="0"/>
                  </a:moveTo>
                  <a:lnTo>
                    <a:pt x="237" y="24"/>
                  </a:lnTo>
                  <a:lnTo>
                    <a:pt x="195" y="48"/>
                  </a:lnTo>
                  <a:lnTo>
                    <a:pt x="195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6" name=""/>
            <p:cNvGrpSpPr/>
            <p:nvPr/>
          </p:nvGrpSpPr>
          <p:grpSpPr>
            <a:xfrm>
              <a:off x="4990680" y="2282760"/>
              <a:ext cx="714600" cy="314640"/>
              <a:chOff x="4990680" y="2282760"/>
              <a:chExt cx="714600" cy="314640"/>
            </a:xfrm>
          </p:grpSpPr>
          <p:sp>
            <p:nvSpPr>
              <p:cNvPr id="187" name=""/>
              <p:cNvSpPr/>
              <p:nvPr/>
            </p:nvSpPr>
            <p:spPr>
              <a:xfrm>
                <a:off x="4990680" y="2282760"/>
                <a:ext cx="714600" cy="3146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4990680" y="2282760"/>
                <a:ext cx="714600" cy="31464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9" name=""/>
            <p:cNvSpPr/>
            <p:nvPr/>
          </p:nvSpPr>
          <p:spPr>
            <a:xfrm>
              <a:off x="4981320" y="2274840"/>
              <a:ext cx="73728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Bipol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Fast Shaper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565960" y="24411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4981320" y="2998800"/>
              <a:ext cx="714600" cy="547920"/>
            </a:xfrm>
            <a:prstGeom prst="rect">
              <a:avLst/>
            </a:prstGeom>
            <a:solidFill>
              <a:srgbClr val="99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Unipolar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Fast Shap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6064200" y="2325240"/>
              <a:ext cx="357120" cy="252000"/>
              <a:chOff x="6064200" y="2325240"/>
              <a:chExt cx="357120" cy="252000"/>
            </a:xfrm>
          </p:grpSpPr>
          <p:grpSp>
            <p:nvGrpSpPr>
              <p:cNvPr id="193" name=""/>
              <p:cNvGrpSpPr/>
              <p:nvPr/>
            </p:nvGrpSpPr>
            <p:grpSpPr>
              <a:xfrm>
                <a:off x="6064200" y="2325240"/>
                <a:ext cx="357120" cy="252000"/>
                <a:chOff x="6064200" y="2325240"/>
                <a:chExt cx="357120" cy="25200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6064200" y="2325240"/>
                  <a:ext cx="357120" cy="2520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6064200" y="2325240"/>
                  <a:ext cx="357120" cy="252000"/>
                </a:xfrm>
                <a:prstGeom prst="rect">
                  <a:avLst/>
                </a:prstGeom>
                <a:noFill/>
                <a:ln cap="rnd"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6" name=""/>
              <p:cNvGrpSpPr/>
              <p:nvPr/>
            </p:nvGrpSpPr>
            <p:grpSpPr>
              <a:xfrm>
                <a:off x="6114960" y="2368440"/>
                <a:ext cx="203400" cy="156240"/>
                <a:chOff x="6114960" y="2368440"/>
                <a:chExt cx="203400" cy="156240"/>
              </a:xfrm>
            </p:grpSpPr>
            <p:sp>
              <p:nvSpPr>
                <p:cNvPr id="197" name=""/>
                <p:cNvSpPr/>
                <p:nvPr/>
              </p:nvSpPr>
              <p:spPr>
                <a:xfrm flipV="1">
                  <a:off x="6114960" y="2524320"/>
                  <a:ext cx="102240" cy="36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440" bIns="-46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 flipV="1">
                  <a:off x="6217200" y="2368440"/>
                  <a:ext cx="1080" cy="1562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6217200" y="2368440"/>
                  <a:ext cx="101160" cy="7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00" name=""/>
            <p:cNvGrpSpPr/>
            <p:nvPr/>
          </p:nvGrpSpPr>
          <p:grpSpPr>
            <a:xfrm>
              <a:off x="6064200" y="3017160"/>
              <a:ext cx="357120" cy="240480"/>
              <a:chOff x="6064200" y="3017160"/>
              <a:chExt cx="357120" cy="240480"/>
            </a:xfrm>
          </p:grpSpPr>
          <p:grpSp>
            <p:nvGrpSpPr>
              <p:cNvPr id="201" name=""/>
              <p:cNvGrpSpPr/>
              <p:nvPr/>
            </p:nvGrpSpPr>
            <p:grpSpPr>
              <a:xfrm>
                <a:off x="6064200" y="3017160"/>
                <a:ext cx="357120" cy="240480"/>
                <a:chOff x="6064200" y="3017160"/>
                <a:chExt cx="357120" cy="24048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6064200" y="3017160"/>
                  <a:ext cx="357120" cy="240480"/>
                </a:xfrm>
                <a:prstGeom prst="rect">
                  <a:avLst/>
                </a:pr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6064200" y="3017160"/>
                  <a:ext cx="357120" cy="240480"/>
                </a:xfrm>
                <a:prstGeom prst="rect">
                  <a:avLst/>
                </a:prstGeom>
                <a:solidFill>
                  <a:srgbClr val="99ff99"/>
                </a:solidFill>
                <a:ln cap="rnd"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6114960" y="3058200"/>
                <a:ext cx="203400" cy="149760"/>
                <a:chOff x="6114960" y="3058200"/>
                <a:chExt cx="203400" cy="149760"/>
              </a:xfrm>
            </p:grpSpPr>
            <p:sp>
              <p:nvSpPr>
                <p:cNvPr id="205" name=""/>
                <p:cNvSpPr/>
                <p:nvPr/>
              </p:nvSpPr>
              <p:spPr>
                <a:xfrm flipV="1">
                  <a:off x="6114960" y="3207240"/>
                  <a:ext cx="102240" cy="72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080" bIns="-46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 flipV="1">
                  <a:off x="6217200" y="3058200"/>
                  <a:ext cx="1080" cy="14904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6217200" y="3058200"/>
                  <a:ext cx="101160" cy="108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08" name=""/>
            <p:cNvSpPr/>
            <p:nvPr/>
          </p:nvSpPr>
          <p:spPr>
            <a:xfrm>
              <a:off x="4777200" y="1625760"/>
              <a:ext cx="213480" cy="820440"/>
            </a:xfrm>
            <a:custGeom>
              <a:avLst/>
              <a:gdLst/>
              <a:ahLst/>
              <a:rect l="l" t="t" r="r" b="b"/>
              <a:pathLst>
                <a:path w="177" h="721">
                  <a:moveTo>
                    <a:pt x="0" y="709"/>
                  </a:moveTo>
                  <a:lnTo>
                    <a:pt x="89" y="709"/>
                  </a:lnTo>
                  <a:lnTo>
                    <a:pt x="83" y="715"/>
                  </a:lnTo>
                  <a:lnTo>
                    <a:pt x="83" y="18"/>
                  </a:lnTo>
                  <a:lnTo>
                    <a:pt x="143" y="18"/>
                  </a:lnTo>
                  <a:lnTo>
                    <a:pt x="143" y="31"/>
                  </a:lnTo>
                  <a:lnTo>
                    <a:pt x="89" y="31"/>
                  </a:lnTo>
                  <a:lnTo>
                    <a:pt x="94" y="25"/>
                  </a:lnTo>
                  <a:lnTo>
                    <a:pt x="94" y="721"/>
                  </a:lnTo>
                  <a:lnTo>
                    <a:pt x="0" y="721"/>
                  </a:lnTo>
                  <a:lnTo>
                    <a:pt x="0" y="709"/>
                  </a:lnTo>
                  <a:close/>
                  <a:moveTo>
                    <a:pt x="136" y="0"/>
                  </a:moveTo>
                  <a:lnTo>
                    <a:pt x="177" y="25"/>
                  </a:lnTo>
                  <a:lnTo>
                    <a:pt x="136" y="49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4777200" y="2413080"/>
              <a:ext cx="213480" cy="55440"/>
            </a:xfrm>
            <a:custGeom>
              <a:avLst/>
              <a:gdLst/>
              <a:ahLst/>
              <a:rect l="l" t="t" r="r" b="b"/>
              <a:pathLst>
                <a:path w="177" h="49">
                  <a:moveTo>
                    <a:pt x="0" y="18"/>
                  </a:moveTo>
                  <a:lnTo>
                    <a:pt x="143" y="19"/>
                  </a:lnTo>
                  <a:lnTo>
                    <a:pt x="143" y="31"/>
                  </a:lnTo>
                  <a:lnTo>
                    <a:pt x="0" y="30"/>
                  </a:lnTo>
                  <a:lnTo>
                    <a:pt x="0" y="18"/>
                  </a:lnTo>
                  <a:close/>
                  <a:moveTo>
                    <a:pt x="136" y="0"/>
                  </a:moveTo>
                  <a:lnTo>
                    <a:pt x="177" y="25"/>
                  </a:lnTo>
                  <a:lnTo>
                    <a:pt x="136" y="49"/>
                  </a:lnTo>
                  <a:lnTo>
                    <a:pt x="136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777200" y="2432880"/>
              <a:ext cx="213480" cy="732600"/>
            </a:xfrm>
            <a:custGeom>
              <a:avLst/>
              <a:gdLst/>
              <a:ahLst/>
              <a:rect l="l" t="t" r="r" b="b"/>
              <a:pathLst>
                <a:path w="177" h="643">
                  <a:moveTo>
                    <a:pt x="0" y="0"/>
                  </a:moveTo>
                  <a:lnTo>
                    <a:pt x="94" y="0"/>
                  </a:lnTo>
                  <a:lnTo>
                    <a:pt x="94" y="618"/>
                  </a:lnTo>
                  <a:lnTo>
                    <a:pt x="89" y="612"/>
                  </a:lnTo>
                  <a:lnTo>
                    <a:pt x="143" y="612"/>
                  </a:lnTo>
                  <a:lnTo>
                    <a:pt x="143" y="624"/>
                  </a:lnTo>
                  <a:lnTo>
                    <a:pt x="83" y="624"/>
                  </a:lnTo>
                  <a:lnTo>
                    <a:pt x="83" y="6"/>
                  </a:lnTo>
                  <a:lnTo>
                    <a:pt x="89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136" y="594"/>
                  </a:moveTo>
                  <a:lnTo>
                    <a:pt x="177" y="618"/>
                  </a:lnTo>
                  <a:lnTo>
                    <a:pt x="136" y="643"/>
                  </a:lnTo>
                  <a:lnTo>
                    <a:pt x="136" y="594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705280" y="1626840"/>
              <a:ext cx="358560" cy="54360"/>
            </a:xfrm>
            <a:custGeom>
              <a:avLst/>
              <a:gdLst/>
              <a:ahLst/>
              <a:rect l="l" t="t" r="r" b="b"/>
              <a:pathLst>
                <a:path w="296" h="48">
                  <a:moveTo>
                    <a:pt x="0" y="18"/>
                  </a:moveTo>
                  <a:lnTo>
                    <a:pt x="261" y="18"/>
                  </a:lnTo>
                  <a:lnTo>
                    <a:pt x="261" y="30"/>
                  </a:lnTo>
                  <a:lnTo>
                    <a:pt x="0" y="30"/>
                  </a:lnTo>
                  <a:lnTo>
                    <a:pt x="0" y="18"/>
                  </a:lnTo>
                  <a:close/>
                  <a:moveTo>
                    <a:pt x="254" y="0"/>
                  </a:moveTo>
                  <a:lnTo>
                    <a:pt x="296" y="24"/>
                  </a:lnTo>
                  <a:lnTo>
                    <a:pt x="254" y="48"/>
                  </a:lnTo>
                  <a:lnTo>
                    <a:pt x="254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705280" y="2413080"/>
              <a:ext cx="358560" cy="55440"/>
            </a:xfrm>
            <a:custGeom>
              <a:avLst/>
              <a:gdLst/>
              <a:ahLst/>
              <a:rect l="l" t="t" r="r" b="b"/>
              <a:pathLst>
                <a:path w="296" h="48">
                  <a:moveTo>
                    <a:pt x="0" y="17"/>
                  </a:moveTo>
                  <a:lnTo>
                    <a:pt x="261" y="18"/>
                  </a:lnTo>
                  <a:lnTo>
                    <a:pt x="261" y="30"/>
                  </a:lnTo>
                  <a:lnTo>
                    <a:pt x="0" y="30"/>
                  </a:lnTo>
                  <a:lnTo>
                    <a:pt x="0" y="17"/>
                  </a:lnTo>
                  <a:close/>
                  <a:moveTo>
                    <a:pt x="254" y="0"/>
                  </a:moveTo>
                  <a:lnTo>
                    <a:pt x="296" y="24"/>
                  </a:lnTo>
                  <a:lnTo>
                    <a:pt x="254" y="48"/>
                  </a:lnTo>
                  <a:lnTo>
                    <a:pt x="254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05280" y="3110040"/>
              <a:ext cx="358560" cy="55440"/>
            </a:xfrm>
            <a:custGeom>
              <a:avLst/>
              <a:gdLst/>
              <a:ahLst/>
              <a:rect l="l" t="t" r="r" b="b"/>
              <a:pathLst>
                <a:path w="296" h="49">
                  <a:moveTo>
                    <a:pt x="0" y="18"/>
                  </a:moveTo>
                  <a:lnTo>
                    <a:pt x="261" y="19"/>
                  </a:lnTo>
                  <a:lnTo>
                    <a:pt x="261" y="31"/>
                  </a:lnTo>
                  <a:lnTo>
                    <a:pt x="0" y="30"/>
                  </a:lnTo>
                  <a:lnTo>
                    <a:pt x="0" y="18"/>
                  </a:lnTo>
                  <a:close/>
                  <a:moveTo>
                    <a:pt x="254" y="0"/>
                  </a:moveTo>
                  <a:lnTo>
                    <a:pt x="296" y="25"/>
                  </a:lnTo>
                  <a:lnTo>
                    <a:pt x="254" y="49"/>
                  </a:lnTo>
                  <a:lnTo>
                    <a:pt x="254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705280" y="3129840"/>
              <a:ext cx="358560" cy="691920"/>
            </a:xfrm>
            <a:custGeom>
              <a:avLst/>
              <a:gdLst/>
              <a:ahLst/>
              <a:rect l="l" t="t" r="r" b="b"/>
              <a:pathLst>
                <a:path w="296" h="708">
                  <a:moveTo>
                    <a:pt x="0" y="0"/>
                  </a:moveTo>
                  <a:lnTo>
                    <a:pt x="153" y="0"/>
                  </a:lnTo>
                  <a:lnTo>
                    <a:pt x="153" y="684"/>
                  </a:lnTo>
                  <a:lnTo>
                    <a:pt x="148" y="678"/>
                  </a:lnTo>
                  <a:lnTo>
                    <a:pt x="261" y="678"/>
                  </a:lnTo>
                  <a:lnTo>
                    <a:pt x="261" y="690"/>
                  </a:lnTo>
                  <a:lnTo>
                    <a:pt x="143" y="690"/>
                  </a:lnTo>
                  <a:lnTo>
                    <a:pt x="143" y="6"/>
                  </a:lnTo>
                  <a:lnTo>
                    <a:pt x="148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254" y="660"/>
                  </a:moveTo>
                  <a:lnTo>
                    <a:pt x="296" y="684"/>
                  </a:lnTo>
                  <a:lnTo>
                    <a:pt x="254" y="708"/>
                  </a:lnTo>
                  <a:lnTo>
                    <a:pt x="254" y="66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V="1">
              <a:off x="5705280" y="2428200"/>
              <a:ext cx="342720" cy="700920"/>
            </a:xfrm>
            <a:custGeom>
              <a:avLst/>
              <a:gdLst/>
              <a:ahLst/>
              <a:rect l="l" t="t" r="r" b="b"/>
              <a:pathLst>
                <a:path w="296" h="994">
                  <a:moveTo>
                    <a:pt x="0" y="0"/>
                  </a:moveTo>
                  <a:lnTo>
                    <a:pt x="153" y="0"/>
                  </a:lnTo>
                  <a:lnTo>
                    <a:pt x="153" y="970"/>
                  </a:lnTo>
                  <a:lnTo>
                    <a:pt x="148" y="964"/>
                  </a:lnTo>
                  <a:lnTo>
                    <a:pt x="261" y="964"/>
                  </a:lnTo>
                  <a:lnTo>
                    <a:pt x="261" y="976"/>
                  </a:lnTo>
                  <a:lnTo>
                    <a:pt x="143" y="976"/>
                  </a:lnTo>
                  <a:lnTo>
                    <a:pt x="143" y="6"/>
                  </a:lnTo>
                  <a:lnTo>
                    <a:pt x="148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254" y="946"/>
                  </a:moveTo>
                  <a:lnTo>
                    <a:pt x="296" y="970"/>
                  </a:lnTo>
                  <a:lnTo>
                    <a:pt x="254" y="994"/>
                  </a:lnTo>
                  <a:lnTo>
                    <a:pt x="254" y="946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420240" y="2441160"/>
              <a:ext cx="294120" cy="696960"/>
            </a:xfrm>
            <a:custGeom>
              <a:avLst/>
              <a:gdLst/>
              <a:ahLst/>
              <a:rect l="l" t="t" r="r" b="b"/>
              <a:pathLst>
                <a:path w="270" h="612">
                  <a:moveTo>
                    <a:pt x="0" y="0"/>
                  </a:moveTo>
                  <a:lnTo>
                    <a:pt x="270" y="0"/>
                  </a:lnTo>
                  <a:lnTo>
                    <a:pt x="270" y="612"/>
                  </a:lnTo>
                  <a:lnTo>
                    <a:pt x="0" y="612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420240" y="3139200"/>
              <a:ext cx="294120" cy="770040"/>
            </a:xfrm>
            <a:custGeom>
              <a:avLst/>
              <a:gdLst/>
              <a:ahLst/>
              <a:rect l="l" t="t" r="r" b="b"/>
              <a:pathLst>
                <a:path w="125" h="677">
                  <a:moveTo>
                    <a:pt x="0" y="0"/>
                  </a:moveTo>
                  <a:lnTo>
                    <a:pt x="125" y="0"/>
                  </a:lnTo>
                  <a:lnTo>
                    <a:pt x="125" y="677"/>
                  </a:lnTo>
                  <a:lnTo>
                    <a:pt x="1" y="677"/>
                  </a:lnTo>
                </a:path>
              </a:pathLst>
            </a:custGeom>
            <a:noFill/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599960" y="3136680"/>
              <a:ext cx="443160" cy="53280"/>
            </a:xfrm>
            <a:custGeom>
              <a:avLst/>
              <a:gdLst/>
              <a:ahLst/>
              <a:rect l="l" t="t" r="r" b="b"/>
              <a:pathLst>
                <a:path w="280" h="49">
                  <a:moveTo>
                    <a:pt x="0" y="18"/>
                  </a:moveTo>
                  <a:lnTo>
                    <a:pt x="245" y="19"/>
                  </a:lnTo>
                  <a:lnTo>
                    <a:pt x="245" y="31"/>
                  </a:lnTo>
                  <a:lnTo>
                    <a:pt x="0" y="30"/>
                  </a:lnTo>
                  <a:lnTo>
                    <a:pt x="0" y="18"/>
                  </a:lnTo>
                  <a:close/>
                  <a:moveTo>
                    <a:pt x="238" y="0"/>
                  </a:moveTo>
                  <a:lnTo>
                    <a:pt x="280" y="25"/>
                  </a:lnTo>
                  <a:lnTo>
                    <a:pt x="238" y="49"/>
                  </a:lnTo>
                  <a:lnTo>
                    <a:pt x="238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480" bIns="6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593400" y="1607040"/>
              <a:ext cx="1610640" cy="80640"/>
            </a:xfrm>
            <a:custGeom>
              <a:avLst/>
              <a:gdLst/>
              <a:ahLst/>
              <a:rect l="l" t="t" r="r" b="b"/>
              <a:pathLst>
                <a:path w="284" h="49">
                  <a:moveTo>
                    <a:pt x="0" y="18"/>
                  </a:moveTo>
                  <a:lnTo>
                    <a:pt x="250" y="19"/>
                  </a:lnTo>
                  <a:lnTo>
                    <a:pt x="250" y="31"/>
                  </a:lnTo>
                  <a:lnTo>
                    <a:pt x="0" y="30"/>
                  </a:lnTo>
                  <a:lnTo>
                    <a:pt x="0" y="18"/>
                  </a:lnTo>
                  <a:close/>
                  <a:moveTo>
                    <a:pt x="243" y="0"/>
                  </a:moveTo>
                  <a:lnTo>
                    <a:pt x="284" y="25"/>
                  </a:lnTo>
                  <a:lnTo>
                    <a:pt x="243" y="49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070800" y="3050280"/>
              <a:ext cx="1219680" cy="3963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Gain correction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64*6bits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113360" y="310212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909600" y="3240000"/>
              <a:ext cx="41760" cy="19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4129560" y="2770200"/>
              <a:ext cx="468720" cy="467280"/>
            </a:xfrm>
            <a:custGeom>
              <a:avLst/>
              <a:gdLst/>
              <a:ahLst/>
              <a:rect l="l" t="t" r="r" b="b"/>
              <a:pathLst>
                <a:path w="7500" h="6773">
                  <a:moveTo>
                    <a:pt x="67" y="6640"/>
                  </a:moveTo>
                  <a:lnTo>
                    <a:pt x="7100" y="6640"/>
                  </a:lnTo>
                  <a:lnTo>
                    <a:pt x="7033" y="6706"/>
                  </a:lnTo>
                  <a:lnTo>
                    <a:pt x="7033" y="666"/>
                  </a:lnTo>
                  <a:cubicBezTo>
                    <a:pt x="7033" y="630"/>
                    <a:pt x="7063" y="600"/>
                    <a:pt x="7100" y="600"/>
                  </a:cubicBezTo>
                  <a:cubicBezTo>
                    <a:pt x="7137" y="600"/>
                    <a:pt x="7167" y="630"/>
                    <a:pt x="7167" y="666"/>
                  </a:cubicBezTo>
                  <a:lnTo>
                    <a:pt x="7167" y="6706"/>
                  </a:lnTo>
                  <a:cubicBezTo>
                    <a:pt x="7167" y="6743"/>
                    <a:pt x="7137" y="6773"/>
                    <a:pt x="7100" y="6773"/>
                  </a:cubicBezTo>
                  <a:lnTo>
                    <a:pt x="67" y="6773"/>
                  </a:lnTo>
                  <a:cubicBezTo>
                    <a:pt x="30" y="6773"/>
                    <a:pt x="0" y="6743"/>
                    <a:pt x="0" y="6706"/>
                  </a:cubicBezTo>
                  <a:cubicBezTo>
                    <a:pt x="0" y="6670"/>
                    <a:pt x="30" y="6640"/>
                    <a:pt x="67" y="6640"/>
                  </a:cubicBezTo>
                  <a:close/>
                  <a:moveTo>
                    <a:pt x="6700" y="800"/>
                  </a:moveTo>
                  <a:lnTo>
                    <a:pt x="7100" y="0"/>
                  </a:lnTo>
                  <a:lnTo>
                    <a:pt x="7500" y="800"/>
                  </a:lnTo>
                  <a:lnTo>
                    <a:pt x="6700" y="80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321160" y="1187640"/>
              <a:ext cx="1032840" cy="371520"/>
            </a:xfrm>
            <a:custGeom>
              <a:avLst/>
              <a:gdLst/>
              <a:ahLst/>
              <a:rect l="l" t="t" r="r" b="b"/>
              <a:pathLst>
                <a:path w="8236" h="2687">
                  <a:moveTo>
                    <a:pt x="33" y="0"/>
                  </a:moveTo>
                  <a:lnTo>
                    <a:pt x="8036" y="0"/>
                  </a:lnTo>
                  <a:cubicBezTo>
                    <a:pt x="8055" y="0"/>
                    <a:pt x="8070" y="15"/>
                    <a:pt x="8070" y="34"/>
                  </a:cubicBezTo>
                  <a:lnTo>
                    <a:pt x="8070" y="2354"/>
                  </a:lnTo>
                  <a:cubicBezTo>
                    <a:pt x="8070" y="2372"/>
                    <a:pt x="8055" y="2387"/>
                    <a:pt x="8036" y="2387"/>
                  </a:cubicBezTo>
                  <a:cubicBezTo>
                    <a:pt x="8018" y="2387"/>
                    <a:pt x="8003" y="2372"/>
                    <a:pt x="8003" y="2354"/>
                  </a:cubicBezTo>
                  <a:lnTo>
                    <a:pt x="8003" y="34"/>
                  </a:lnTo>
                  <a:lnTo>
                    <a:pt x="8036" y="67"/>
                  </a:lnTo>
                  <a:lnTo>
                    <a:pt x="33" y="67"/>
                  </a:lnTo>
                  <a:cubicBezTo>
                    <a:pt x="15" y="67"/>
                    <a:pt x="0" y="52"/>
                    <a:pt x="0" y="34"/>
                  </a:cubicBezTo>
                  <a:cubicBezTo>
                    <a:pt x="0" y="15"/>
                    <a:pt x="15" y="0"/>
                    <a:pt x="33" y="0"/>
                  </a:cubicBezTo>
                  <a:close/>
                  <a:moveTo>
                    <a:pt x="8236" y="2287"/>
                  </a:moveTo>
                  <a:lnTo>
                    <a:pt x="8036" y="2687"/>
                  </a:lnTo>
                  <a:lnTo>
                    <a:pt x="7836" y="2287"/>
                  </a:lnTo>
                  <a:lnTo>
                    <a:pt x="8236" y="2287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226680" y="3820320"/>
              <a:ext cx="875880" cy="594360"/>
            </a:xfrm>
            <a:prstGeom prst="rect">
              <a:avLst/>
            </a:prstGeom>
            <a:solidFill>
              <a:srgbClr val="99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300" spc="-1" strike="noStrike">
                  <a:solidFill>
                    <a:srgbClr val="000000"/>
                  </a:solidFill>
                  <a:latin typeface="Times New Roman"/>
                </a:rPr>
                <a:t>3 discri thresholds (3*12 bits)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8141040" y="1365480"/>
              <a:ext cx="10681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Multiplex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Analog charge outpu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566480" y="16376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5732640" y="350712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 rot="5400000">
              <a:off x="6531120" y="2936520"/>
              <a:ext cx="32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5400000">
              <a:off x="6414840" y="2514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 rot="5400000">
              <a:off x="6294960" y="2514960"/>
              <a:ext cx="42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rot="5400000">
              <a:off x="6178680" y="242604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5400000">
              <a:off x="6062760" y="2514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 rot="5400000">
              <a:off x="5943240" y="2514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 rot="5400000">
              <a:off x="5821200" y="2514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 rot="5400000">
              <a:off x="5704560" y="25149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411960" y="4242600"/>
              <a:ext cx="2052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249600" y="4307760"/>
              <a:ext cx="38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39" name=""/>
            <p:cNvGrpSpPr/>
            <p:nvPr/>
          </p:nvGrpSpPr>
          <p:grpSpPr>
            <a:xfrm>
              <a:off x="6048000" y="3718080"/>
              <a:ext cx="381240" cy="220320"/>
              <a:chOff x="6048000" y="3718080"/>
              <a:chExt cx="381240" cy="220320"/>
            </a:xfrm>
          </p:grpSpPr>
          <p:grpSp>
            <p:nvGrpSpPr>
              <p:cNvPr id="240" name=""/>
              <p:cNvGrpSpPr/>
              <p:nvPr/>
            </p:nvGrpSpPr>
            <p:grpSpPr>
              <a:xfrm>
                <a:off x="6048000" y="3718080"/>
                <a:ext cx="381240" cy="220320"/>
                <a:chOff x="6048000" y="3718080"/>
                <a:chExt cx="381240" cy="22032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6048000" y="3718080"/>
                  <a:ext cx="381240" cy="220320"/>
                </a:xfrm>
                <a:prstGeom prst="rect">
                  <a:avLst/>
                </a:prstGeom>
                <a:solidFill>
                  <a:srgbClr val="99ff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6048000" y="3718080"/>
                  <a:ext cx="381240" cy="220320"/>
                </a:xfrm>
                <a:prstGeom prst="rect">
                  <a:avLst/>
                </a:prstGeom>
                <a:solidFill>
                  <a:srgbClr val="99ff99"/>
                </a:solidFill>
                <a:ln cap="rnd" w="792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6102360" y="3755160"/>
                <a:ext cx="217440" cy="137160"/>
                <a:chOff x="6102360" y="3755160"/>
                <a:chExt cx="217440" cy="13716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6102360" y="3891240"/>
                  <a:ext cx="108720" cy="108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V="1">
                  <a:off x="6211080" y="3755160"/>
                  <a:ext cx="1080" cy="13608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>
                  <a:off x="6211080" y="3755160"/>
                  <a:ext cx="108720" cy="1080"/>
                </a:xfrm>
                <a:prstGeom prst="line">
                  <a:avLst/>
                </a:prstGeom>
                <a:ln w="111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720" bIns="-45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47" name=""/>
            <p:cNvSpPr/>
            <p:nvPr/>
          </p:nvSpPr>
          <p:spPr>
            <a:xfrm>
              <a:off x="6078960" y="3963960"/>
              <a:ext cx="27648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Times New Roman"/>
                </a:rPr>
                <a:t>LUCID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6048000" y="1881720"/>
              <a:ext cx="529200" cy="185760"/>
              <a:chOff x="6048000" y="1881720"/>
              <a:chExt cx="529200" cy="185760"/>
            </a:xfrm>
          </p:grpSpPr>
          <p:sp>
            <p:nvSpPr>
              <p:cNvPr id="249" name=""/>
              <p:cNvSpPr/>
              <p:nvPr/>
            </p:nvSpPr>
            <p:spPr>
              <a:xfrm>
                <a:off x="6048000" y="1881720"/>
                <a:ext cx="529200" cy="185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6048000" y="1881720"/>
                <a:ext cx="529200" cy="185760"/>
              </a:xfrm>
              <a:prstGeom prst="rect">
                <a:avLst/>
              </a:prstGeom>
              <a:noFill/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1" name=""/>
            <p:cNvSpPr/>
            <p:nvPr/>
          </p:nvSpPr>
          <p:spPr>
            <a:xfrm>
              <a:off x="6180480" y="1912680"/>
              <a:ext cx="3315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S&amp;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717520" y="1654920"/>
              <a:ext cx="357120" cy="309240"/>
            </a:xfrm>
            <a:custGeom>
              <a:avLst/>
              <a:gdLst/>
              <a:ahLst/>
              <a:rect l="l" t="t" r="r" b="b"/>
              <a:pathLst>
                <a:path w="296" h="708">
                  <a:moveTo>
                    <a:pt x="0" y="0"/>
                  </a:moveTo>
                  <a:lnTo>
                    <a:pt x="153" y="0"/>
                  </a:lnTo>
                  <a:lnTo>
                    <a:pt x="153" y="684"/>
                  </a:lnTo>
                  <a:lnTo>
                    <a:pt x="148" y="678"/>
                  </a:lnTo>
                  <a:lnTo>
                    <a:pt x="261" y="678"/>
                  </a:lnTo>
                  <a:lnTo>
                    <a:pt x="261" y="690"/>
                  </a:lnTo>
                  <a:lnTo>
                    <a:pt x="143" y="690"/>
                  </a:lnTo>
                  <a:lnTo>
                    <a:pt x="143" y="6"/>
                  </a:lnTo>
                  <a:lnTo>
                    <a:pt x="148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254" y="660"/>
                  </a:moveTo>
                  <a:lnTo>
                    <a:pt x="296" y="684"/>
                  </a:lnTo>
                  <a:lnTo>
                    <a:pt x="254" y="708"/>
                  </a:lnTo>
                  <a:lnTo>
                    <a:pt x="254" y="66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944960" y="3654360"/>
              <a:ext cx="713520" cy="36540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3 DA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12 bi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878520" y="2994480"/>
              <a:ext cx="711720" cy="365400"/>
            </a:xfrm>
            <a:prstGeom prst="rect">
              <a:avLst/>
            </a:prstGeom>
            <a:solidFill>
              <a:srgbClr val="99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80 MHz encod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6878520" y="1929600"/>
              <a:ext cx="711720" cy="730440"/>
            </a:xfrm>
            <a:prstGeom prst="rect">
              <a:avLst/>
            </a:prstGeom>
            <a:solidFill>
              <a:srgbClr val="99ff99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64  Wilkinson 12 bit AD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597080" y="2049120"/>
              <a:ext cx="667800" cy="58320"/>
            </a:xfrm>
            <a:custGeom>
              <a:avLst/>
              <a:gdLst/>
              <a:ahLst/>
              <a:rect l="l" t="t" r="r" b="b"/>
              <a:pathLst>
                <a:path w="284" h="49">
                  <a:moveTo>
                    <a:pt x="0" y="18"/>
                  </a:moveTo>
                  <a:lnTo>
                    <a:pt x="250" y="19"/>
                  </a:lnTo>
                  <a:lnTo>
                    <a:pt x="250" y="31"/>
                  </a:lnTo>
                  <a:lnTo>
                    <a:pt x="0" y="30"/>
                  </a:lnTo>
                  <a:lnTo>
                    <a:pt x="0" y="18"/>
                  </a:lnTo>
                  <a:close/>
                  <a:moveTo>
                    <a:pt x="243" y="0"/>
                  </a:moveTo>
                  <a:lnTo>
                    <a:pt x="284" y="25"/>
                  </a:lnTo>
                  <a:lnTo>
                    <a:pt x="243" y="49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491520" y="1739880"/>
              <a:ext cx="358560" cy="309240"/>
            </a:xfrm>
            <a:custGeom>
              <a:avLst/>
              <a:gdLst/>
              <a:ahLst/>
              <a:rect l="l" t="t" r="r" b="b"/>
              <a:pathLst>
                <a:path w="296" h="708">
                  <a:moveTo>
                    <a:pt x="0" y="0"/>
                  </a:moveTo>
                  <a:lnTo>
                    <a:pt x="153" y="0"/>
                  </a:lnTo>
                  <a:lnTo>
                    <a:pt x="153" y="684"/>
                  </a:lnTo>
                  <a:lnTo>
                    <a:pt x="148" y="678"/>
                  </a:lnTo>
                  <a:lnTo>
                    <a:pt x="261" y="678"/>
                  </a:lnTo>
                  <a:lnTo>
                    <a:pt x="261" y="690"/>
                  </a:lnTo>
                  <a:lnTo>
                    <a:pt x="143" y="690"/>
                  </a:lnTo>
                  <a:lnTo>
                    <a:pt x="143" y="6"/>
                  </a:lnTo>
                  <a:lnTo>
                    <a:pt x="148" y="12"/>
                  </a:lnTo>
                  <a:lnTo>
                    <a:pt x="0" y="12"/>
                  </a:lnTo>
                  <a:lnTo>
                    <a:pt x="0" y="0"/>
                  </a:lnTo>
                  <a:close/>
                  <a:moveTo>
                    <a:pt x="254" y="660"/>
                  </a:moveTo>
                  <a:lnTo>
                    <a:pt x="296" y="684"/>
                  </a:lnTo>
                  <a:lnTo>
                    <a:pt x="254" y="708"/>
                  </a:lnTo>
                  <a:lnTo>
                    <a:pt x="254" y="66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082000" y="2871000"/>
              <a:ext cx="1523520" cy="73044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3300"/>
                  </a:solidFill>
                  <a:latin typeface="Times New Roman"/>
                </a:rPr>
                <a:t>64 trigger outputs (to FPGA)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114800" y="3756960"/>
              <a:ext cx="835560" cy="51480"/>
            </a:xfrm>
            <a:custGeom>
              <a:avLst/>
              <a:gdLst/>
              <a:ahLst/>
              <a:rect l="l" t="t" r="r" b="b"/>
              <a:pathLst>
                <a:path w="284" h="49">
                  <a:moveTo>
                    <a:pt x="0" y="18"/>
                  </a:moveTo>
                  <a:lnTo>
                    <a:pt x="250" y="19"/>
                  </a:lnTo>
                  <a:lnTo>
                    <a:pt x="250" y="31"/>
                  </a:lnTo>
                  <a:lnTo>
                    <a:pt x="0" y="30"/>
                  </a:lnTo>
                  <a:lnTo>
                    <a:pt x="0" y="18"/>
                  </a:lnTo>
                  <a:close/>
                  <a:moveTo>
                    <a:pt x="243" y="0"/>
                  </a:moveTo>
                  <a:lnTo>
                    <a:pt x="284" y="25"/>
                  </a:lnTo>
                  <a:lnTo>
                    <a:pt x="243" y="49"/>
                  </a:lnTo>
                  <a:lnTo>
                    <a:pt x="243" y="0"/>
                  </a:lnTo>
                  <a:close/>
                </a:path>
              </a:pathLst>
            </a:custGeom>
            <a:solidFill>
              <a:srgbClr val="000000"/>
            </a:solidFill>
            <a:ln w="1440">
              <a:solidFill>
                <a:srgbClr val="000000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" bIns="4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60" name=""/>
            <p:cNvGrpSpPr/>
            <p:nvPr/>
          </p:nvGrpSpPr>
          <p:grpSpPr>
            <a:xfrm>
              <a:off x="7158240" y="2630520"/>
              <a:ext cx="284040" cy="145800"/>
              <a:chOff x="7158240" y="2630520"/>
              <a:chExt cx="284040" cy="145800"/>
            </a:xfrm>
          </p:grpSpPr>
          <p:grpSp>
            <p:nvGrpSpPr>
              <p:cNvPr id="261" name=""/>
              <p:cNvGrpSpPr/>
              <p:nvPr/>
            </p:nvGrpSpPr>
            <p:grpSpPr>
              <a:xfrm>
                <a:off x="7180920" y="2664360"/>
                <a:ext cx="227520" cy="111960"/>
                <a:chOff x="7180920" y="2664360"/>
                <a:chExt cx="227520" cy="111960"/>
              </a:xfrm>
            </p:grpSpPr>
            <p:sp>
              <p:nvSpPr>
                <p:cNvPr id="262" name=""/>
                <p:cNvSpPr/>
                <p:nvPr/>
              </p:nvSpPr>
              <p:spPr>
                <a:xfrm rot="5400000">
                  <a:off x="7238520" y="2606400"/>
                  <a:ext cx="111960" cy="227520"/>
                </a:xfrm>
                <a:prstGeom prst="rect">
                  <a:avLst/>
                </a:prstGeom>
                <a:solidFill>
                  <a:srgbClr val="ffcc99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 rot="5400000">
                  <a:off x="7238520" y="2606400"/>
                  <a:ext cx="111960" cy="227520"/>
                </a:xfrm>
                <a:prstGeom prst="rect">
                  <a:avLst/>
                </a:prstGeom>
                <a:noFill/>
                <a:ln cap="rnd" w="1584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4" name=""/>
              <p:cNvSpPr/>
              <p:nvPr/>
            </p:nvSpPr>
            <p:spPr>
              <a:xfrm>
                <a:off x="7158240" y="2720520"/>
                <a:ext cx="103320" cy="108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 flipV="1">
                <a:off x="7261560" y="2630520"/>
                <a:ext cx="84960" cy="9000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0" bIns="43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>
                <a:off x="7341480" y="2719440"/>
                <a:ext cx="100800" cy="720"/>
              </a:xfrm>
              <a:prstGeom prst="line">
                <a:avLst/>
              </a:prstGeom>
              <a:ln w="158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080" bIns="-46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7" name=""/>
            <p:cNvSpPr/>
            <p:nvPr/>
          </p:nvSpPr>
          <p:spPr>
            <a:xfrm flipH="1">
              <a:off x="6714000" y="2724840"/>
              <a:ext cx="44316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7434000" y="2724840"/>
              <a:ext cx="276840" cy="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711200" y="2724840"/>
              <a:ext cx="0" cy="464760"/>
            </a:xfrm>
            <a:prstGeom prst="line">
              <a:avLst/>
            </a:prstGeom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8141040" y="2027880"/>
              <a:ext cx="106812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Multiplexed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00"/>
                  </a:solidFill>
                  <a:latin typeface="Times New Roman"/>
                </a:rPr>
                <a:t>Digital charge output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3425400" y="2104920"/>
              <a:ext cx="772200" cy="182880"/>
            </a:xfrm>
            <a:prstGeom prst="rect">
              <a:avLst/>
            </a:prstGeom>
            <a:solidFill>
              <a:srgbClr val="fff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Times New Roman"/>
                </a:rPr>
                <a:t>64 inputs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FJPPL Neutrino PMM2 R&amp;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4E3D-0743-4196-B9E3-75C93BC0C41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EK, 9 may 2007</a:t>
            </a: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304812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64 channels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Preamp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Fast shaper 15n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Discriminator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Slow shaper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Track&amp;Hol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12bit AD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10bit DAC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Bangap reference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Digital formatting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Silicon Germanium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0.35µm BiCMO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omic Sans MS"/>
              </a:rPr>
              <a:t>16mm2 area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3419640" y="907920"/>
            <a:ext cx="5402160" cy="525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FJPPL Neutrino PMM2 R&amp;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DA168-14CD-4F6E-B50D-888A82A49CA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EK, 9 ma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MAROC performance</a:t>
            </a: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5148360" y="1052640"/>
            <a:ext cx="3711600" cy="2385720"/>
          </a:xfrm>
          <a:prstGeom prst="rect">
            <a:avLst/>
          </a:prstGeom>
          <a:ln w="0">
            <a:noFill/>
          </a:ln>
        </p:spPr>
      </p:pic>
      <p:pic>
        <p:nvPicPr>
          <p:cNvPr id="277" name="" descr=""/>
          <p:cNvPicPr/>
          <p:nvPr/>
        </p:nvPicPr>
        <p:blipFill>
          <a:blip r:embed="rId2"/>
          <a:stretch/>
        </p:blipFill>
        <p:spPr>
          <a:xfrm>
            <a:off x="250920" y="3860640"/>
            <a:ext cx="4176720" cy="250668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3"/>
          <a:stretch/>
        </p:blipFill>
        <p:spPr>
          <a:xfrm>
            <a:off x="250920" y="1052640"/>
            <a:ext cx="4211640" cy="2597040"/>
          </a:xfrm>
          <a:prstGeom prst="rect">
            <a:avLst/>
          </a:prstGeom>
          <a:ln w="0">
            <a:noFill/>
          </a:ln>
        </p:spPr>
      </p:pic>
      <p:pic>
        <p:nvPicPr>
          <p:cNvPr id="279" name="" descr=""/>
          <p:cNvPicPr/>
          <p:nvPr/>
        </p:nvPicPr>
        <p:blipFill>
          <a:blip r:embed="rId4"/>
          <a:stretch/>
        </p:blipFill>
        <p:spPr>
          <a:xfrm>
            <a:off x="4788000" y="3860640"/>
            <a:ext cx="4127400" cy="259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FJPPL Neutrino PMM2 R&amp;D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3133D-85F1-42A2-89F7-AF16638F497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EK, 9 ma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ADC performance</a:t>
            </a: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pic>
        <p:nvPicPr>
          <p:cNvPr id="281" name="" descr=""/>
          <p:cNvPicPr/>
          <p:nvPr/>
        </p:nvPicPr>
        <p:blipFill>
          <a:blip r:embed="rId1"/>
          <a:stretch/>
        </p:blipFill>
        <p:spPr>
          <a:xfrm>
            <a:off x="2987640" y="692280"/>
            <a:ext cx="6156360" cy="3456000"/>
          </a:xfrm>
          <a:prstGeom prst="rect">
            <a:avLst/>
          </a:prstGeom>
          <a:ln w="0">
            <a:noFill/>
          </a:ln>
        </p:spPr>
      </p:pic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228240" y="914040"/>
            <a:ext cx="261468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Wilkinson type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64 channels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12 bits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omic Sans MS"/>
              </a:rPr>
              <a:t>80 µs conversion time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83" name="" descr=""/>
          <p:cNvPicPr/>
          <p:nvPr/>
        </p:nvPicPr>
        <p:blipFill>
          <a:blip r:embed="rId2"/>
          <a:stretch/>
        </p:blipFill>
        <p:spPr>
          <a:xfrm>
            <a:off x="2987640" y="4114800"/>
            <a:ext cx="6156360" cy="27432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FJPPL Neutrino PMM2 R&amp;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ACEB7-1AFA-470B-92EE-329832482020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EK, 9 ma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520" y="76320"/>
            <a:ext cx="8001000" cy="54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Comic Sans MS"/>
              </a:rPr>
              <a:t>CONCLUSION</a:t>
            </a:r>
            <a:endParaRPr b="1" lang="en-US" sz="2400" spc="-1" strike="noStrike">
              <a:solidFill>
                <a:srgbClr val="ff3300"/>
              </a:solidFill>
              <a:latin typeface="Comic Sans MS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23640" y="691920"/>
            <a:ext cx="5111640" cy="5832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MAROC2 fullfills most of the requirements of 2 km WC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ip mature, used in ATLAS luminometry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To be done: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ime dizitization (100 psTDC)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Data out “on power wire”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est on a prototype (16 PMs, 8’’) with MAROC2 foreseen shortly at IPNO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451"/>
              </a:spcBef>
              <a:buClr>
                <a:srgbClr val="3366ff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mic Sans MS"/>
              </a:rPr>
              <a:t>Joint activities with KEK :</a:t>
            </a:r>
            <a:endParaRPr b="1" lang="en-US" sz="1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Tests  at KEK by Tanaka-san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ommon ASIC development : TDC, ADC, DAQ,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Specific preamp for HPD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spcBef>
                <a:spcPts val="400"/>
              </a:spcBef>
              <a:buClr>
                <a:srgbClr val="3366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Characterization of common parts</a:t>
            </a: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1571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0" y="1666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5651640" y="3213000"/>
            <a:ext cx="2976480" cy="3384720"/>
            <a:chOff x="5651640" y="3213000"/>
            <a:chExt cx="2976480" cy="3384720"/>
          </a:xfrm>
        </p:grpSpPr>
        <p:pic>
          <p:nvPicPr>
            <p:cNvPr id="289" name="" descr=""/>
            <p:cNvPicPr/>
            <p:nvPr/>
          </p:nvPicPr>
          <p:blipFill>
            <a:blip r:embed="rId1"/>
            <a:srcRect l="16077" t="15312" r="15482" b="11430"/>
            <a:stretch/>
          </p:blipFill>
          <p:spPr>
            <a:xfrm>
              <a:off x="5651640" y="3213000"/>
              <a:ext cx="2976480" cy="338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0" name=""/>
            <p:cNvSpPr/>
            <p:nvPr/>
          </p:nvSpPr>
          <p:spPr>
            <a:xfrm>
              <a:off x="6659640" y="4653000"/>
              <a:ext cx="1081080" cy="57636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91" name="" descr=""/>
          <p:cNvPicPr/>
          <p:nvPr/>
        </p:nvPicPr>
        <p:blipFill>
          <a:blip r:embed="rId2"/>
          <a:stretch/>
        </p:blipFill>
        <p:spPr>
          <a:xfrm>
            <a:off x="5148360" y="189000"/>
            <a:ext cx="3625920" cy="2719440"/>
          </a:xfrm>
          <a:prstGeom prst="rect">
            <a:avLst/>
          </a:prstGeom>
          <a:ln w="0">
            <a:noFill/>
          </a:ln>
        </p:spPr>
      </p:pic>
      <p:pic>
        <p:nvPicPr>
          <p:cNvPr id="292" name="" descr=""/>
          <p:cNvPicPr/>
          <p:nvPr/>
        </p:nvPicPr>
        <p:blipFill>
          <a:blip r:embed="rId3"/>
          <a:stretch/>
        </p:blipFill>
        <p:spPr>
          <a:xfrm>
            <a:off x="4692600" y="4962600"/>
            <a:ext cx="1471680" cy="1706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cdlt FJPPL Neutrino PMM2 R&amp;D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53BD-8885-4CC4-AECC-0100BB563DC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KEK, 9 may 2007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7T09:27:03Z</dcterms:created>
  <dc:creator>N. Seguin-Moreau</dc:creator>
  <dc:description/>
  <dc:language>en-US</dc:language>
  <cp:lastModifiedBy>taille</cp:lastModifiedBy>
  <cp:lastPrinted>2000-09-07T15:05:17Z</cp:lastPrinted>
  <dcterms:modified xsi:type="dcterms:W3CDTF">2007-05-08T08:50:13Z</dcterms:modified>
  <cp:revision>419</cp:revision>
  <dc:subject>Phone meeting</dc:subject>
  <dc:title>ATLAS Luminometry</dc:title>
</cp:coreProperties>
</file>